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B2A-5A5C-4FF0-B21A-0741F201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64ED-2557-4187-9DA2-BEA9CABD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77E3-E6FC-4C86-81BF-99041F0F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9C40-B400-4A85-8EFC-C055C42B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7C08-2A13-4F9F-B45A-E56157AC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ED46-0BC1-424A-B7FB-56640DE5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96CB-034D-4A39-93DC-100717CE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3B49-F7C5-4762-B413-340932CA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D7B0-0651-43DD-BF90-48C87D8D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EBF7-1B74-4240-B843-AD4CB3F0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06D2-D3AE-42F6-86CB-272CA4CF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8A77-6075-4D84-95DB-C726C7E4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828B-2282-4980-B8CE-69590409D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 Sty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line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 layout, names, classes, comments, constants, methods, nested ifs, nested loops, complex conditions,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sted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eenshot – page 374 drawApartments code using nested for loops and an example without nested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, for or while statements with ands (&amp;&amp;) and ors (||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difficult to understand page 375 code while loop and condition. It searches an array using a flag ( 0 = not found, 1 = found, 2 search completed not fou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page 3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spec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code –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information (class diagra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results (maybe test data al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cation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manual (if nee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style, easy 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 if necessary (text uses a single sty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tyle important, promotes readability for debugging and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lines for good program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names, indentation, blank lines, new pages,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‘final’ makes data item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should not be too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ed ‘ifs’, loops – complex conditions to be used judici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documentation always wor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: programming highly creative, exact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s of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within commercial organizations: most programs worked on by several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rganizations have a standards manual that details what a program should look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rograms are read by several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ers (look for bu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should be easy 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usable, good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ntation – block – one style used in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nk lines – separate vis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ages – start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 – descriptive, le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– building blocks of 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arity – see OOD chapter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ity – OOD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ing data – OOD encaps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, publ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size – over two pages may be too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 order – variables, public methods, privat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/ singl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* … */  multipl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** … */ Java documentation Generator – produces HTML code – user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that can not change while program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things that do not change 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double taxRate = 17.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int votingAge = 1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not be declared withi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s program clarity – provides some error prev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hange is required (say tax rate was increased – one line change solves the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double taxRate = 18.0; // no other lines in the program that refer to taxRate need to be alt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names meaning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Sa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size – about a single p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sted 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o use – or not page 371 two examples showing nesting and avoid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371 examples of if-else indented and alternat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373 code without nesting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373 code using switch. Some cases do not need n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5:04:41Z</dcterms:created>
  <dc:creator> </dc:creator>
  <dc:description/>
  <dc:language>en-US</dc:language>
  <cp:lastModifiedBy> </cp:lastModifiedBy>
  <dcterms:modified xsi:type="dcterms:W3CDTF">2005-05-11T15:08:52Z</dcterms:modified>
  <cp:revision>2</cp:revision>
  <dc:subject/>
  <dc:title>Program Style Chapter 19</dc:title>
</cp:coreProperties>
</file>